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CD598-EBDC-4870-B9A0-548CAC37DC4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736AE-D7E7-4C02-84E3-93FFEBFCC89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445F1-131E-4DDB-AF84-8130393BD4E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E669-EC8D-43F6-B1E1-E1080FF4F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F197-148A-48F6-9E52-061E30EE7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4B42-8BAB-4E98-8E6E-3A8C0ADE7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8784-6A32-4A1C-B892-19E6E5FFA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0B41B-E5B0-4BE6-9413-F118DA8E0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86EA1-1644-47B1-9EBD-D736EE235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52F84-9969-4B93-968A-D1AB7AED2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E696D-2854-4D5F-8246-DB276E44E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E910F-4DC2-4208-B324-98A599BC9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D66E1-8859-4F67-B3ED-AFCF8E037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24702-EB20-4E44-B265-84EF7E39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482D-1807-4619-9623-F70B46CB6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04098-5925-4E8B-80B2-72D777EE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6BC23-275C-4226-9564-FCE45318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734E7-5908-441E-8DA1-9E1748F5C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20B7F-786E-4028-A996-74F1F1B81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DB915-3135-434A-A907-006E75482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6E05-D86D-46C0-899E-488326E82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C007-8D94-42E8-AEE6-CA3645854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C85E-4A3A-43A8-BAF9-EE31A6BE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02CB-7776-4375-8E1A-7F4FCDFCB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162B-0BB0-4AF4-872D-1F476A40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BF98-2779-408C-A772-38ECFE59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75F1-80CE-401C-819F-6BE1C95B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78329-283D-4F0A-9FF1-7DD74F65D1B3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555FA-8C83-4B2C-9085-B57B3F0135C7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9.jpeg"/><Relationship Id="rId3" Type="http://schemas.openxmlformats.org/officeDocument/2006/relationships/image" Target="../media/image7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image" Target="../media/image15.jpeg"/><Relationship Id="rId14" Type="http://schemas.openxmlformats.org/officeDocument/2006/relationships/image" Target="../media/image16.jpeg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2708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Tema 4. Los organismos y el medi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FACTORES BIOTICOS</a:t>
            </a:r>
            <a:r>
              <a:rPr b="0" lang="es-ES" sz="3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200"/>
            </a:b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 u="sng">
                <a:solidFill>
                  <a:srgbClr val="ffcc66"/>
                </a:solidFill>
                <a:uFillTx/>
                <a:latin typeface="Tahoma"/>
              </a:rPr>
              <a:t>Relaciones interespecíficas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Text Box 40"/>
          <p:cNvSpPr/>
          <p:nvPr/>
        </p:nvSpPr>
        <p:spPr>
          <a:xfrm>
            <a:off x="357120" y="1643040"/>
            <a:ext cx="7959960" cy="47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00000"/>
                </a:solidFill>
                <a:latin typeface="Tahoma"/>
              </a:rPr>
              <a:t>Son las relaciones que se establecen entre los individuos de diferentes poblaciones (diferentes especies) de un ecosistem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PRED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MPETENC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RASITISM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UTUALISM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FACTORES BIOTICOS</a:t>
            </a:r>
            <a:r>
              <a:rPr b="0" lang="es-ES" sz="3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200"/>
            </a:br>
            <a:r>
              <a:rPr b="0" lang="es-ES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 u="sng">
                <a:solidFill>
                  <a:srgbClr val="ffcc66"/>
                </a:solidFill>
                <a:uFillTx/>
                <a:latin typeface="Tahoma"/>
              </a:rPr>
              <a:t>Relaciones interespecífica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64" name="Group 12"/>
          <p:cNvGrpSpPr/>
          <p:nvPr/>
        </p:nvGrpSpPr>
        <p:grpSpPr>
          <a:xfrm>
            <a:off x="5867280" y="3429000"/>
            <a:ext cx="2376360" cy="892080"/>
            <a:chOff x="5867280" y="3429000"/>
            <a:chExt cx="2376360" cy="892080"/>
          </a:xfrm>
        </p:grpSpPr>
        <p:pic>
          <p:nvPicPr>
            <p:cNvPr id="165" name="Picture 13" descr="Daphnia%20with%20eggs"/>
            <p:cNvPicPr/>
            <p:nvPr/>
          </p:nvPicPr>
          <p:blipFill>
            <a:blip r:embed="rId1"/>
            <a:stretch/>
          </p:blipFill>
          <p:spPr>
            <a:xfrm>
              <a:off x="5867280" y="3429000"/>
              <a:ext cx="1368360" cy="89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 Box 14"/>
            <p:cNvSpPr/>
            <p:nvPr/>
          </p:nvSpPr>
          <p:spPr>
            <a:xfrm>
              <a:off x="7235640" y="3571920"/>
              <a:ext cx="1008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Pulga de agua</a:t>
              </a:r>
              <a:br>
                <a:rPr sz="1200"/>
              </a:b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(crustaceo)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67" name="Group 15"/>
          <p:cNvGrpSpPr/>
          <p:nvPr/>
        </p:nvGrpSpPr>
        <p:grpSpPr>
          <a:xfrm>
            <a:off x="1978200" y="3429000"/>
            <a:ext cx="1150920" cy="1067040"/>
            <a:chOff x="1978200" y="3429000"/>
            <a:chExt cx="1150920" cy="1067040"/>
          </a:xfrm>
        </p:grpSpPr>
        <p:pic>
          <p:nvPicPr>
            <p:cNvPr id="168" name="Picture 16" descr="1996693"/>
            <p:cNvPicPr/>
            <p:nvPr/>
          </p:nvPicPr>
          <p:blipFill>
            <a:blip r:embed="rId2"/>
            <a:stretch/>
          </p:blipFill>
          <p:spPr>
            <a:xfrm>
              <a:off x="1978200" y="3429000"/>
              <a:ext cx="1150920" cy="7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Text Box 17"/>
            <p:cNvSpPr/>
            <p:nvPr/>
          </p:nvSpPr>
          <p:spPr>
            <a:xfrm>
              <a:off x="2156040" y="4219560"/>
              <a:ext cx="90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Flamenco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0" name="Line 18"/>
          <p:cNvSpPr/>
          <p:nvPr/>
        </p:nvSpPr>
        <p:spPr>
          <a:xfrm>
            <a:off x="3490920" y="3932280"/>
            <a:ext cx="20876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19"/>
          <p:cNvSpPr/>
          <p:nvPr/>
        </p:nvSpPr>
        <p:spPr>
          <a:xfrm>
            <a:off x="3562200" y="335592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00000"/>
                </a:solidFill>
                <a:latin typeface="Tahoma"/>
              </a:rPr>
              <a:t>DEPREDAC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20"/>
          <p:cNvSpPr/>
          <p:nvPr/>
        </p:nvSpPr>
        <p:spPr>
          <a:xfrm>
            <a:off x="3706920" y="5013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00000"/>
                </a:solidFill>
                <a:latin typeface="Tahoma"/>
              </a:rPr>
              <a:t>DEPREDAC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Line 21"/>
          <p:cNvSpPr/>
          <p:nvPr/>
        </p:nvSpPr>
        <p:spPr>
          <a:xfrm>
            <a:off x="3562200" y="5589720"/>
            <a:ext cx="20876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74" name="Group 22"/>
          <p:cNvGrpSpPr/>
          <p:nvPr/>
        </p:nvGrpSpPr>
        <p:grpSpPr>
          <a:xfrm>
            <a:off x="1546200" y="4724280"/>
            <a:ext cx="1835280" cy="1428840"/>
            <a:chOff x="1546200" y="4724280"/>
            <a:chExt cx="1835280" cy="1428840"/>
          </a:xfrm>
        </p:grpSpPr>
        <p:pic>
          <p:nvPicPr>
            <p:cNvPr id="175" name="Picture 23" descr="1996518"/>
            <p:cNvPicPr/>
            <p:nvPr/>
          </p:nvPicPr>
          <p:blipFill>
            <a:blip r:embed="rId3"/>
            <a:stretch/>
          </p:blipFill>
          <p:spPr>
            <a:xfrm>
              <a:off x="2049480" y="4724280"/>
              <a:ext cx="1084320" cy="11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Text Box 24"/>
            <p:cNvSpPr/>
            <p:nvPr/>
          </p:nvSpPr>
          <p:spPr>
            <a:xfrm>
              <a:off x="1546200" y="5876640"/>
              <a:ext cx="1835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Malvasía cabeciblanca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77" name="Group 25"/>
          <p:cNvGrpSpPr/>
          <p:nvPr/>
        </p:nvGrpSpPr>
        <p:grpSpPr>
          <a:xfrm>
            <a:off x="5867280" y="4869000"/>
            <a:ext cx="1333440" cy="1285920"/>
            <a:chOff x="5867280" y="4869000"/>
            <a:chExt cx="1333440" cy="1285920"/>
          </a:xfrm>
        </p:grpSpPr>
        <p:pic>
          <p:nvPicPr>
            <p:cNvPr id="178" name="Picture 26" descr="potamogeton_pectinatus"/>
            <p:cNvPicPr/>
            <p:nvPr/>
          </p:nvPicPr>
          <p:blipFill>
            <a:blip r:embed="rId4"/>
            <a:stretch/>
          </p:blipFill>
          <p:spPr>
            <a:xfrm>
              <a:off x="5867280" y="4869000"/>
              <a:ext cx="1333440" cy="100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Text Box 27"/>
            <p:cNvSpPr/>
            <p:nvPr/>
          </p:nvSpPr>
          <p:spPr>
            <a:xfrm>
              <a:off x="5938920" y="5878440"/>
              <a:ext cx="1225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Potamogeton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80" name="Text Box 28"/>
          <p:cNvSpPr/>
          <p:nvPr/>
        </p:nvSpPr>
        <p:spPr>
          <a:xfrm>
            <a:off x="1116000" y="2205000"/>
            <a:ext cx="748836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DEPREDACIÓN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: un ser vivo se alimenta de otro, al que da muer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FACTORES BIOTICOS</a:t>
            </a:r>
            <a:r>
              <a:rPr b="0" lang="es-ES" sz="3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200"/>
            </a:br>
            <a:r>
              <a:rPr b="0" lang="es-ES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 u="sng">
                <a:solidFill>
                  <a:srgbClr val="ffcc66"/>
                </a:solidFill>
                <a:uFillTx/>
                <a:latin typeface="Tahoma"/>
              </a:rPr>
              <a:t>Relaciones interespecífica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Line 21"/>
          <p:cNvSpPr/>
          <p:nvPr/>
        </p:nvSpPr>
        <p:spPr>
          <a:xfrm>
            <a:off x="3419640" y="4149720"/>
            <a:ext cx="208728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Text Box 22"/>
          <p:cNvSpPr/>
          <p:nvPr/>
        </p:nvSpPr>
        <p:spPr>
          <a:xfrm>
            <a:off x="3492360" y="35002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00000"/>
                </a:solidFill>
                <a:latin typeface="Tahoma"/>
              </a:rPr>
              <a:t>COMPETENC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84" name="Group 23"/>
          <p:cNvGrpSpPr/>
          <p:nvPr/>
        </p:nvGrpSpPr>
        <p:grpSpPr>
          <a:xfrm>
            <a:off x="826920" y="3357720"/>
            <a:ext cx="2266920" cy="1834560"/>
            <a:chOff x="826920" y="3357720"/>
            <a:chExt cx="2266920" cy="1834560"/>
          </a:xfrm>
        </p:grpSpPr>
        <p:pic>
          <p:nvPicPr>
            <p:cNvPr id="185" name="Picture 24" descr="1996518"/>
            <p:cNvPicPr/>
            <p:nvPr/>
          </p:nvPicPr>
          <p:blipFill>
            <a:blip r:embed="rId1"/>
            <a:stretch/>
          </p:blipFill>
          <p:spPr>
            <a:xfrm>
              <a:off x="1448640" y="3357720"/>
              <a:ext cx="133920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Text Box 25"/>
            <p:cNvSpPr/>
            <p:nvPr/>
          </p:nvSpPr>
          <p:spPr>
            <a:xfrm>
              <a:off x="826920" y="4915800"/>
              <a:ext cx="2266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Malvasía cabeciblanca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7" name="Group 26"/>
          <p:cNvGrpSpPr/>
          <p:nvPr/>
        </p:nvGrpSpPr>
        <p:grpSpPr>
          <a:xfrm>
            <a:off x="5940360" y="3357720"/>
            <a:ext cx="1800000" cy="1600200"/>
            <a:chOff x="5940360" y="3357720"/>
            <a:chExt cx="1800000" cy="1600200"/>
          </a:xfrm>
        </p:grpSpPr>
        <p:pic>
          <p:nvPicPr>
            <p:cNvPr id="188" name="Picture 27" descr="1996534"/>
            <p:cNvPicPr/>
            <p:nvPr/>
          </p:nvPicPr>
          <p:blipFill>
            <a:blip r:embed="rId2"/>
            <a:stretch/>
          </p:blipFill>
          <p:spPr>
            <a:xfrm>
              <a:off x="5940360" y="3357720"/>
              <a:ext cx="1478160" cy="12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Text Box 28"/>
            <p:cNvSpPr/>
            <p:nvPr/>
          </p:nvSpPr>
          <p:spPr>
            <a:xfrm>
              <a:off x="5985000" y="4681440"/>
              <a:ext cx="1755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Pato colorado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90" name="Text Box 39"/>
          <p:cNvSpPr/>
          <p:nvPr/>
        </p:nvSpPr>
        <p:spPr>
          <a:xfrm>
            <a:off x="1403280" y="2060640"/>
            <a:ext cx="705636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COMPETENCI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: dos especies utilizan un mismo recurso, como el espacio para criar o un alimen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41"/>
          <p:cNvSpPr/>
          <p:nvPr/>
        </p:nvSpPr>
        <p:spPr>
          <a:xfrm>
            <a:off x="1258920" y="5661000"/>
            <a:ext cx="72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as dos especies se alimentan, entre otras cosas, de la planta acuática </a:t>
            </a:r>
            <a:r>
              <a:rPr b="0" i="1" lang="es-ES" sz="1800" spc="-1" strike="noStrike">
                <a:solidFill>
                  <a:srgbClr val="ffffff"/>
                </a:solidFill>
                <a:latin typeface="Tahoma"/>
              </a:rPr>
              <a:t>Potamogeton sp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FACTORES BIOTICOS</a:t>
            </a:r>
            <a:r>
              <a:rPr b="0" lang="es-ES" sz="3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200"/>
            </a:br>
            <a:r>
              <a:rPr b="0" lang="es-E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 u="sng">
                <a:solidFill>
                  <a:srgbClr val="ffcc66"/>
                </a:solidFill>
                <a:uFillTx/>
                <a:latin typeface="Tahoma"/>
              </a:rPr>
              <a:t>Relaciones interespecífica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93" name="Group 12"/>
          <p:cNvGrpSpPr/>
          <p:nvPr/>
        </p:nvGrpSpPr>
        <p:grpSpPr>
          <a:xfrm>
            <a:off x="1620720" y="3573360"/>
            <a:ext cx="1871280" cy="1338840"/>
            <a:chOff x="1620720" y="3573360"/>
            <a:chExt cx="1871280" cy="1338840"/>
          </a:xfrm>
        </p:grpSpPr>
        <p:pic>
          <p:nvPicPr>
            <p:cNvPr id="194" name="Picture 13" descr="E"/>
            <p:cNvPicPr/>
            <p:nvPr/>
          </p:nvPicPr>
          <p:blipFill>
            <a:blip r:embed="rId1"/>
            <a:stretch/>
          </p:blipFill>
          <p:spPr>
            <a:xfrm>
              <a:off x="1726200" y="3573360"/>
              <a:ext cx="1247040" cy="111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Text Box 14"/>
            <p:cNvSpPr/>
            <p:nvPr/>
          </p:nvSpPr>
          <p:spPr>
            <a:xfrm>
              <a:off x="1620720" y="4635720"/>
              <a:ext cx="1871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Entamoeba (protozoo)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96" name="Line 15"/>
          <p:cNvSpPr/>
          <p:nvPr/>
        </p:nvSpPr>
        <p:spPr>
          <a:xfrm>
            <a:off x="3565440" y="4508640"/>
            <a:ext cx="20876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16"/>
          <p:cNvSpPr/>
          <p:nvPr/>
        </p:nvSpPr>
        <p:spPr>
          <a:xfrm>
            <a:off x="3637080" y="3789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00000"/>
                </a:solidFill>
                <a:latin typeface="Tahoma"/>
              </a:rPr>
              <a:t>PARASITISM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8" name="Group 17"/>
          <p:cNvGrpSpPr/>
          <p:nvPr/>
        </p:nvGrpSpPr>
        <p:grpSpPr>
          <a:xfrm>
            <a:off x="5940360" y="3573360"/>
            <a:ext cx="1657080" cy="1736280"/>
            <a:chOff x="5940360" y="3573360"/>
            <a:chExt cx="1657080" cy="1736280"/>
          </a:xfrm>
        </p:grpSpPr>
        <p:pic>
          <p:nvPicPr>
            <p:cNvPr id="199" name="Picture 18" descr="ranacomun"/>
            <p:cNvPicPr/>
            <p:nvPr/>
          </p:nvPicPr>
          <p:blipFill>
            <a:blip r:embed="rId2"/>
            <a:stretch/>
          </p:blipFill>
          <p:spPr>
            <a:xfrm>
              <a:off x="5940360" y="3573360"/>
              <a:ext cx="1657080" cy="145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 Box 19"/>
            <p:cNvSpPr/>
            <p:nvPr/>
          </p:nvSpPr>
          <p:spPr>
            <a:xfrm>
              <a:off x="6024960" y="5033160"/>
              <a:ext cx="144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Rana común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01" name="Text Box 20"/>
          <p:cNvSpPr/>
          <p:nvPr/>
        </p:nvSpPr>
        <p:spPr>
          <a:xfrm>
            <a:off x="1258920" y="2205000"/>
            <a:ext cx="734544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PARASITISMO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: un ser vivo se alimenta de otro, causandole un perjuicio pero no la muerte. Los hay internos y extern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Text Box 21"/>
          <p:cNvSpPr/>
          <p:nvPr/>
        </p:nvSpPr>
        <p:spPr>
          <a:xfrm>
            <a:off x="1403280" y="580536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l protozoo vive en el intestino de la Rana, alimentandose a su costa y debilitando a est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FACTORES BIOTICOS</a:t>
            </a:r>
            <a:r>
              <a:rPr b="0" lang="es-ES" sz="3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200"/>
            </a:b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 u="sng">
                <a:solidFill>
                  <a:srgbClr val="ffcc66"/>
                </a:solidFill>
                <a:uFillTx/>
                <a:latin typeface="Tahoma"/>
              </a:rPr>
              <a:t>Relaciones interespecíficas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4" name="Line 6"/>
          <p:cNvSpPr/>
          <p:nvPr/>
        </p:nvSpPr>
        <p:spPr>
          <a:xfrm>
            <a:off x="3564000" y="4365720"/>
            <a:ext cx="20876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3637080" y="3789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00000"/>
                </a:solidFill>
                <a:latin typeface="Tahoma"/>
              </a:rPr>
              <a:t>MUTUALISM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11"/>
          <p:cNvSpPr/>
          <p:nvPr/>
        </p:nvSpPr>
        <p:spPr>
          <a:xfrm>
            <a:off x="1285920" y="2143080"/>
            <a:ext cx="748980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MUTUALISMO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: dos especies se asocian para beneficiarse mutua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07" name="Group 12"/>
          <p:cNvGrpSpPr/>
          <p:nvPr/>
        </p:nvGrpSpPr>
        <p:grpSpPr>
          <a:xfrm>
            <a:off x="1403280" y="3789360"/>
            <a:ext cx="2231640" cy="1533240"/>
            <a:chOff x="1403280" y="3789360"/>
            <a:chExt cx="2231640" cy="1533240"/>
          </a:xfrm>
        </p:grpSpPr>
        <p:pic>
          <p:nvPicPr>
            <p:cNvPr id="208" name="Picture 13" descr="1996607"/>
            <p:cNvPicPr/>
            <p:nvPr/>
          </p:nvPicPr>
          <p:blipFill>
            <a:blip r:embed="rId1"/>
            <a:stretch/>
          </p:blipFill>
          <p:spPr>
            <a:xfrm>
              <a:off x="1859040" y="3789360"/>
              <a:ext cx="136548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Text Box 14"/>
            <p:cNvSpPr/>
            <p:nvPr/>
          </p:nvSpPr>
          <p:spPr>
            <a:xfrm>
              <a:off x="1403280" y="5046120"/>
              <a:ext cx="22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Zampullín cuellinegro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10" name="Group 15"/>
          <p:cNvGrpSpPr/>
          <p:nvPr/>
        </p:nvGrpSpPr>
        <p:grpSpPr>
          <a:xfrm>
            <a:off x="5940360" y="3716280"/>
            <a:ext cx="1944360" cy="1630800"/>
            <a:chOff x="5940360" y="3716280"/>
            <a:chExt cx="1944360" cy="1630800"/>
          </a:xfrm>
        </p:grpSpPr>
        <p:pic>
          <p:nvPicPr>
            <p:cNvPr id="211" name="Picture 16" descr="1996534"/>
            <p:cNvPicPr/>
            <p:nvPr/>
          </p:nvPicPr>
          <p:blipFill>
            <a:blip r:embed="rId2"/>
            <a:stretch/>
          </p:blipFill>
          <p:spPr>
            <a:xfrm>
              <a:off x="5940360" y="3716280"/>
              <a:ext cx="1596600" cy="130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Text Box 17"/>
            <p:cNvSpPr/>
            <p:nvPr/>
          </p:nvSpPr>
          <p:spPr>
            <a:xfrm>
              <a:off x="5988600" y="5070600"/>
              <a:ext cx="1896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Pato colorado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13" name="Text Box 18"/>
          <p:cNvSpPr/>
          <p:nvPr/>
        </p:nvSpPr>
        <p:spPr>
          <a:xfrm>
            <a:off x="1187280" y="573408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Forman una colonia reproductora, y las dos en época de reproducción se asocian para proteger a sus cria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3 Marcador de fecha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02DFD-FA5A-4557-911B-55D04C46059E}" type="datetime">
              <a:rPr b="0" lang="es-ES" sz="1400" spc="-1" strike="noStrike">
                <a:solidFill>
                  <a:srgbClr val="000000"/>
                </a:solidFill>
                <a:latin typeface="Lucida Sans Unicode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740A1-DBDA-4F5F-8D55-ECDAEB780471}" type="slidenum">
              <a:rPr b="0" lang="es-ES" sz="14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FACTORES BIOTICOS: factores dependientes de la densidad de población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Población: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os seres vivos que pertenecen a la misma especie y desarrollan una serie de relaciones intraespecíficas que originan una dinámica de poblacion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Comunidad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: Todas las poblaciones de diferentes especies que habitan un área determinado y que mantienen relaciones interespecífic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Nicho ecológico: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odas las condiciones físico-químicas y biológicas que necesita una especie para vivir en un hábitat determinad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3 Marcador de fecha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0B7AB-D8DE-4A78-AD0A-85FF89D5D654}" type="datetime">
              <a:rPr b="0" lang="es-ES" sz="1400" spc="-1" strike="noStrike">
                <a:solidFill>
                  <a:srgbClr val="000000"/>
                </a:solidFill>
                <a:latin typeface="Lucida Sans Unicode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6F7D3-B7A1-457D-8A13-BC7E5A677BFD}" type="slidenum">
              <a:rPr b="0" lang="es-ES" sz="14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SEGÚN EL NICHO ECOLÓGICO :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229600" cy="466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Especialistas: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viven en un nicho reducido. Son 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Estrategas de la K.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Especies que ocupan biotopos poco cambiantes, que mantienen el máximo nº de individuos que admite la población y que tienen pocos descendientes. Oso pand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Generalistas: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Especies de nicho ecológico amplio. Son 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Estrategas de la R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, presentan pocas exigencias ambientales, se adaptan rápidamente y su abundancia es menor. Cucarach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odos estos organismos interaccionan entre sí y con los factores del        medio tendiendo al equilibrio. Cuando las condiciones cambian se inician las 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SUCECIONES ECOLÓGIC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http://osos.anipedia.net/images/foto-oso-panda-bambu.jpg"/>
          <p:cNvPicPr/>
          <p:nvPr/>
        </p:nvPicPr>
        <p:blipFill>
          <a:blip r:embed="rId1"/>
          <a:stretch/>
        </p:blipFill>
        <p:spPr>
          <a:xfrm>
            <a:off x="395280" y="692280"/>
            <a:ext cx="4340160" cy="29034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http://1.bp.blogspot.com/-GOHRl4AKIqo/TyMMFy8ZD5I/AAAAAAAAHl4/2X2p9aLyc0Y/s1600/cucaracha.jpg"/>
          <p:cNvPicPr/>
          <p:nvPr/>
        </p:nvPicPr>
        <p:blipFill>
          <a:blip r:embed="rId2"/>
          <a:stretch/>
        </p:blipFill>
        <p:spPr>
          <a:xfrm>
            <a:off x="4381560" y="3357720"/>
            <a:ext cx="476244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ahoma"/>
              </a:rPr>
              <a:t>¿Qué amenaza a las especies?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strucción y fragmentación de hábita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Introducción de especies exóti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obreexplotación de especi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l cambio climát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Tahoma"/>
              </a:rPr>
              <a:t>LA ECOLOGÍ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1677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s la ciencia que estudia los ecosistemas”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677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s científicos encargados del estudio se llaman 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Ecólogo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5" descr="greenpeace_070507_1-400"/>
          <p:cNvPicPr/>
          <p:nvPr/>
        </p:nvPicPr>
        <p:blipFill>
          <a:blip r:embed="rId1"/>
          <a:stretch/>
        </p:blipFill>
        <p:spPr>
          <a:xfrm>
            <a:off x="684360" y="3664080"/>
            <a:ext cx="4319280" cy="2894040"/>
          </a:xfrm>
          <a:prstGeom prst="rect">
            <a:avLst/>
          </a:prstGeom>
          <a:ln w="0">
            <a:noFill/>
          </a:ln>
        </p:spPr>
      </p:pic>
      <p:sp>
        <p:nvSpPr>
          <p:cNvPr id="99" name="Text Box 6"/>
          <p:cNvSpPr/>
          <p:nvPr/>
        </p:nvSpPr>
        <p:spPr>
          <a:xfrm>
            <a:off x="5148360" y="4292640"/>
            <a:ext cx="36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No hay que confundirlos con los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Tahoma"/>
              </a:rPr>
              <a:t>ecologistas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. Que son personas interesadas en la conservación de la naturalez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Tahoma"/>
              </a:rPr>
              <a:t>LOS ECOSISTEMA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onjunto de seres vivos que se relacionan entre ellos y con el medio en el que viv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6" descr="ecosistema_lacustre"/>
          <p:cNvPicPr/>
          <p:nvPr/>
        </p:nvPicPr>
        <p:blipFill>
          <a:blip r:embed="rId1"/>
          <a:stretch/>
        </p:blipFill>
        <p:spPr>
          <a:xfrm>
            <a:off x="468360" y="2813040"/>
            <a:ext cx="3598920" cy="35244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7"/>
          <p:cNvSpPr/>
          <p:nvPr/>
        </p:nvSpPr>
        <p:spPr>
          <a:xfrm>
            <a:off x="4427640" y="3068640"/>
            <a:ext cx="446544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n otras palabras, el ecosistema es una unidad formada por </a:t>
            </a:r>
            <a:r>
              <a:rPr b="0" lang="es-ES" sz="1800" spc="-1" strike="noStrike">
                <a:solidFill>
                  <a:srgbClr val="100000"/>
                </a:solidFill>
                <a:latin typeface="Tahoma"/>
              </a:rPr>
              <a:t>factores bióticos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(o integrantes vivos como los vegetales y los animales) y </a:t>
            </a:r>
            <a:r>
              <a:rPr b="0" lang="es-ES" sz="1800" spc="-1" strike="noStrike">
                <a:solidFill>
                  <a:srgbClr val="100000"/>
                </a:solidFill>
                <a:latin typeface="Tahoma"/>
              </a:rPr>
              <a:t>factores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100000"/>
                </a:solidFill>
                <a:latin typeface="Tahoma"/>
              </a:rPr>
              <a:t>abióticos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(componentes que carecen de vida, como por ejemplo la luz, temperatura, salinidad, y el agua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Tahoma"/>
              </a:rPr>
              <a:t>LOS ECOSISTEMAS</a:t>
            </a:r>
            <a:br>
              <a:rPr sz="4000"/>
            </a:br>
            <a:r>
              <a:rPr b="0" lang="es-ES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cc66"/>
                </a:solidFill>
                <a:latin typeface="Tahoma"/>
              </a:rPr>
              <a:t>FACTORES BIOTICOS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826920" y="1989000"/>
            <a:ext cx="7777440" cy="41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00000"/>
                </a:solidFill>
                <a:latin typeface="Tahoma"/>
              </a:rPr>
              <a:t>Entre los seres vivos de un ecosistema pueden establecerse diferentes niveles de organización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100000"/>
                </a:solidFill>
                <a:latin typeface="Tahoma"/>
              </a:rPr>
              <a:t>POBLACIÓN.</a:t>
            </a:r>
            <a:r>
              <a:rPr b="0" lang="es-ES" sz="2000" spc="-1" strike="noStrike">
                <a:solidFill>
                  <a:srgbClr val="100000"/>
                </a:solidFill>
                <a:latin typeface="Tahoma"/>
              </a:rPr>
              <a:t>-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seres de la misma especie que forman parte de un ecosistema, y que se reproducen entre ellos. Por ejemplo: población de Malvasía cabeciblanca que vive en el ecosistema de la laguna de la veg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100000"/>
                </a:solidFill>
                <a:latin typeface="Tahoma"/>
              </a:rPr>
              <a:t>COMUNIDAD (Biocenosis).-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conjunto de poblaciones de seres vivos que habitan en un ecosistema. Por ejemplo: la comunidad que forman las poblaciones de Malvasía cabeciblanca, Zampullín cuellinegro, Daphnia (pulga de agua), Culebra de agua, Libélulas, Algas, Carriz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Tahoma"/>
              </a:rPr>
              <a:t>LOS ECOSISTEMAS</a:t>
            </a:r>
            <a:br>
              <a:rPr sz="4000"/>
            </a:br>
            <a:r>
              <a:rPr b="0" lang="es-ES" sz="2400" spc="-1" strike="noStrike">
                <a:solidFill>
                  <a:srgbClr val="ffcc66"/>
                </a:solidFill>
                <a:latin typeface="Tahoma"/>
              </a:rPr>
              <a:t>FACTORES ABIOTICOS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755640" y="1557360"/>
            <a:ext cx="7993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l medio ambiente de un organismo está constituido por todos los factores o condiciones que existen en el lugar en el que habita y que influyen sobre él en algún momento de su vida. 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os 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factores abióticos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son las características fisico-químicas que posee un medio. No dependen directamente de los seres vivos, aunque su actividad puede modificarlo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258920" y="3716280"/>
            <a:ext cx="3457440" cy="303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cc66"/>
                </a:solidFill>
                <a:uFillTx/>
                <a:latin typeface="Tahoma"/>
              </a:rPr>
              <a:t>MEDIO ACUATIC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100000"/>
                </a:solidFill>
                <a:latin typeface="Tahoma"/>
              </a:rPr>
              <a:t>TEMPERATURA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: disminuye con la profundida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100000"/>
                </a:solidFill>
                <a:latin typeface="Tahoma"/>
              </a:rPr>
              <a:t>LUZ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: importante para los organismos fotosintético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100000"/>
                </a:solidFill>
                <a:latin typeface="Tahoma"/>
              </a:rPr>
              <a:t>GASES DISUELTOS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: la cantidad de oxígeno en el agua para la respiración y el dioxido de carbono para la fotosíntesis son muy important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100000"/>
                </a:solidFill>
                <a:latin typeface="Tahoma"/>
              </a:rPr>
              <a:t>SALINIDAD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: la cantidad de sales, condicionará el tipo de seres vivos que puedan vivir alli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5148360" y="3716280"/>
            <a:ext cx="3671640" cy="2670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cc66"/>
                </a:solidFill>
                <a:uFillTx/>
                <a:latin typeface="Tahoma"/>
              </a:rPr>
              <a:t>MEDIO TERREST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100000"/>
                </a:solidFill>
                <a:latin typeface="Tahoma"/>
              </a:rPr>
              <a:t>LUZ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: importante en  la fotosíntes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100000"/>
                </a:solidFill>
                <a:latin typeface="Tahoma"/>
              </a:rPr>
              <a:t>HUMEDAD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: proporción de vapor de agua en el ai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100000"/>
                </a:solidFill>
                <a:latin typeface="Tahoma"/>
              </a:rPr>
              <a:t>TEMPERATURA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: importante en las reacciones químicas, asi como en la disponibilidad de aliment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100000"/>
                </a:solidFill>
                <a:latin typeface="Tahoma"/>
              </a:rPr>
              <a:t>SUELO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: su composición química así como su textura condicionará a los seres vivos que alli puedan vivi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3 Marcador de fecha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3330F-094D-436D-8F1F-F825C6CF51C6}" type="datetime">
              <a:rPr b="0" lang="es-ES" sz="1400" spc="-1" strike="noStrike">
                <a:solidFill>
                  <a:srgbClr val="000000"/>
                </a:solidFill>
                <a:latin typeface="Lucida Sans Unicode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7CE5D-09BE-4165-B6DD-E45C995799E3}" type="slidenum">
              <a:rPr b="0" lang="es-ES" sz="14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68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1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os seres vivos que habitan en un medio están continuamente sometidos a una serie de factores ambientales o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FACTORES ABIOTIC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xisten unos límites máximos y mínimos de los factores ambientales que toleran los organismos . Son los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 LIMITES DE TOLERANCIA.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l factor ambiental que sobrepasa la amplitud de  estos límites es el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FACTOR LIMITANTE.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3 Marcador de fecha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FC407-0352-4113-9E36-9AE10188EE22}" type="datetime">
              <a:rPr b="0" lang="es-ES" sz="1400" spc="-1" strike="noStrike">
                <a:solidFill>
                  <a:srgbClr val="000000"/>
                </a:solidFill>
                <a:latin typeface="Lucida Sans Unicode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DEFC2-7557-4D27-8AD4-B253B490ABE9}" type="slidenum">
              <a:rPr b="0" lang="es-ES" sz="14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168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2d050"/>
                </a:solidFill>
                <a:latin typeface="Tahoma"/>
              </a:rPr>
              <a:t>SEGÚN EL MARGEN DE TOLERANCIA QUE LAS ESPECIES </a:t>
            </a:r>
            <a:br>
              <a:rPr sz="2000"/>
            </a:br>
            <a:r>
              <a:rPr b="0" lang="es-ES" sz="2000" spc="-1" strike="noStrike">
                <a:solidFill>
                  <a:srgbClr val="92d050"/>
                </a:solidFill>
                <a:latin typeface="Tahoma"/>
              </a:rPr>
              <a:t>PRESENTEN RESPECTO A LOS CAMBIOS DE DETERMINADOS FACTORES ABIÓTICOS SE CLASIFICAN EN</a:t>
            </a:r>
            <a:r>
              <a:rPr b="0" lang="es-ES" sz="2400" spc="-1" strike="noStrike">
                <a:solidFill>
                  <a:srgbClr val="92d05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14240" y="1571760"/>
            <a:ext cx="7515360" cy="44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70c0"/>
                </a:solidFill>
                <a:latin typeface="Tahoma"/>
              </a:rPr>
              <a:t>ESPECIES ESTENO</a:t>
            </a: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n un estrecho margen  de tolerancia para un determinado factor. Por ejemplo , hay organismo higrófilos , que necesitan un alto grado de humedad para vivir y xerófilos adaptados a vivir sin agua ; en un caso la escasez y en el otro , la abundancia del agua , son nocivos para estos organismos.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70c0"/>
                </a:solidFill>
                <a:latin typeface="Tahoma"/>
              </a:rPr>
              <a:t>ESPECIES EURI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con un amplio margen de tolerancia. La mayoría de las especies de nuestras regiones tienen moderadas necesidades de agua , soportando alternancia de estaciones húmedas y secas , o con altas y bajas temperaturas. Todas las especies que habitan en los estuarios y marismas son especies eurihalinas , pues están adaptadas a soportar grandes y rápidos cambios de salinidad.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FACTORES BIOTICOS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ffcc66"/>
                </a:solidFill>
                <a:latin typeface="Tahoma"/>
              </a:rPr>
              <a:t>Poblaciones de la vega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" name="Picture 5" descr="1996867"/>
          <p:cNvPicPr/>
          <p:nvPr/>
        </p:nvPicPr>
        <p:blipFill>
          <a:blip r:embed="rId1"/>
          <a:stretch/>
        </p:blipFill>
        <p:spPr>
          <a:xfrm>
            <a:off x="2050920" y="1773360"/>
            <a:ext cx="5112000" cy="3832200"/>
          </a:xfrm>
          <a:prstGeom prst="rect">
            <a:avLst/>
          </a:prstGeom>
          <a:ln w="0">
            <a:noFill/>
          </a:ln>
        </p:spPr>
      </p:pic>
      <p:grpSp>
        <p:nvGrpSpPr>
          <p:cNvPr id="120" name="Group 44"/>
          <p:cNvGrpSpPr/>
          <p:nvPr/>
        </p:nvGrpSpPr>
        <p:grpSpPr>
          <a:xfrm>
            <a:off x="179280" y="260280"/>
            <a:ext cx="1656000" cy="1357560"/>
            <a:chOff x="179280" y="260280"/>
            <a:chExt cx="1656000" cy="1357560"/>
          </a:xfrm>
        </p:grpSpPr>
        <p:pic>
          <p:nvPicPr>
            <p:cNvPr id="121" name="Picture 17" descr="1995396"/>
            <p:cNvPicPr/>
            <p:nvPr/>
          </p:nvPicPr>
          <p:blipFill>
            <a:blip r:embed="rId2"/>
            <a:stretch/>
          </p:blipFill>
          <p:spPr>
            <a:xfrm>
              <a:off x="179280" y="260280"/>
              <a:ext cx="1454400" cy="10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Text Box 22"/>
            <p:cNvSpPr/>
            <p:nvPr/>
          </p:nvSpPr>
          <p:spPr>
            <a:xfrm>
              <a:off x="179280" y="1341360"/>
              <a:ext cx="165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Culebra de agua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3" name="Group 45"/>
          <p:cNvGrpSpPr/>
          <p:nvPr/>
        </p:nvGrpSpPr>
        <p:grpSpPr>
          <a:xfrm>
            <a:off x="179280" y="1628640"/>
            <a:ext cx="1403280" cy="1284480"/>
            <a:chOff x="179280" y="1628640"/>
            <a:chExt cx="1403280" cy="1284480"/>
          </a:xfrm>
        </p:grpSpPr>
        <p:pic>
          <p:nvPicPr>
            <p:cNvPr id="124" name="Picture 19" descr="ranacomun"/>
            <p:cNvPicPr/>
            <p:nvPr/>
          </p:nvPicPr>
          <p:blipFill>
            <a:blip r:embed="rId3"/>
            <a:stretch/>
          </p:blipFill>
          <p:spPr>
            <a:xfrm>
              <a:off x="179280" y="1628640"/>
              <a:ext cx="140328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23"/>
            <p:cNvSpPr/>
            <p:nvPr/>
          </p:nvSpPr>
          <p:spPr>
            <a:xfrm>
              <a:off x="250920" y="2636640"/>
              <a:ext cx="1225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Rana común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6" name="Group 54"/>
          <p:cNvGrpSpPr/>
          <p:nvPr/>
        </p:nvGrpSpPr>
        <p:grpSpPr>
          <a:xfrm>
            <a:off x="7380360" y="1700280"/>
            <a:ext cx="1763640" cy="1141560"/>
            <a:chOff x="7380360" y="1700280"/>
            <a:chExt cx="1763640" cy="1141560"/>
          </a:xfrm>
        </p:grpSpPr>
        <p:pic>
          <p:nvPicPr>
            <p:cNvPr id="127" name="Picture 11" descr="1996607"/>
            <p:cNvPicPr/>
            <p:nvPr/>
          </p:nvPicPr>
          <p:blipFill>
            <a:blip r:embed="rId4"/>
            <a:stretch/>
          </p:blipFill>
          <p:spPr>
            <a:xfrm>
              <a:off x="7740720" y="1700280"/>
              <a:ext cx="107928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25"/>
            <p:cNvSpPr/>
            <p:nvPr/>
          </p:nvSpPr>
          <p:spPr>
            <a:xfrm>
              <a:off x="7380360" y="2565360"/>
              <a:ext cx="176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Zampullín cuellinegro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9" name="Group 53"/>
          <p:cNvGrpSpPr/>
          <p:nvPr/>
        </p:nvGrpSpPr>
        <p:grpSpPr>
          <a:xfrm>
            <a:off x="7308720" y="2924280"/>
            <a:ext cx="1835280" cy="1428840"/>
            <a:chOff x="7308720" y="2924280"/>
            <a:chExt cx="1835280" cy="1428840"/>
          </a:xfrm>
        </p:grpSpPr>
        <p:pic>
          <p:nvPicPr>
            <p:cNvPr id="130" name="Picture 7" descr="1996518"/>
            <p:cNvPicPr/>
            <p:nvPr/>
          </p:nvPicPr>
          <p:blipFill>
            <a:blip r:embed="rId5"/>
            <a:stretch/>
          </p:blipFill>
          <p:spPr>
            <a:xfrm>
              <a:off x="7812000" y="2924280"/>
              <a:ext cx="1084320" cy="11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26"/>
            <p:cNvSpPr/>
            <p:nvPr/>
          </p:nvSpPr>
          <p:spPr>
            <a:xfrm>
              <a:off x="7308720" y="4076640"/>
              <a:ext cx="1835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Malvasía cabeciblanca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2" name="Group 52"/>
          <p:cNvGrpSpPr/>
          <p:nvPr/>
        </p:nvGrpSpPr>
        <p:grpSpPr>
          <a:xfrm>
            <a:off x="7740720" y="4437000"/>
            <a:ext cx="1403280" cy="1211400"/>
            <a:chOff x="7740720" y="4437000"/>
            <a:chExt cx="1403280" cy="1211400"/>
          </a:xfrm>
        </p:grpSpPr>
        <p:pic>
          <p:nvPicPr>
            <p:cNvPr id="133" name="Picture 9" descr="1996534"/>
            <p:cNvPicPr/>
            <p:nvPr/>
          </p:nvPicPr>
          <p:blipFill>
            <a:blip r:embed="rId6"/>
            <a:stretch/>
          </p:blipFill>
          <p:spPr>
            <a:xfrm>
              <a:off x="7740720" y="4437000"/>
              <a:ext cx="1152360" cy="90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27"/>
            <p:cNvSpPr/>
            <p:nvPr/>
          </p:nvSpPr>
          <p:spPr>
            <a:xfrm>
              <a:off x="7775640" y="5371920"/>
              <a:ext cx="1368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Pato colorado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5" name="Group 51"/>
          <p:cNvGrpSpPr/>
          <p:nvPr/>
        </p:nvGrpSpPr>
        <p:grpSpPr>
          <a:xfrm>
            <a:off x="7812000" y="5792760"/>
            <a:ext cx="1150920" cy="1067040"/>
            <a:chOff x="7812000" y="5792760"/>
            <a:chExt cx="1150920" cy="1067040"/>
          </a:xfrm>
        </p:grpSpPr>
        <p:pic>
          <p:nvPicPr>
            <p:cNvPr id="136" name="Picture 13" descr="1996693"/>
            <p:cNvPicPr/>
            <p:nvPr/>
          </p:nvPicPr>
          <p:blipFill>
            <a:blip r:embed="rId7"/>
            <a:stretch/>
          </p:blipFill>
          <p:spPr>
            <a:xfrm>
              <a:off x="7812000" y="5792760"/>
              <a:ext cx="1150920" cy="7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28"/>
            <p:cNvSpPr/>
            <p:nvPr/>
          </p:nvSpPr>
          <p:spPr>
            <a:xfrm>
              <a:off x="7989840" y="6583320"/>
              <a:ext cx="90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Flamenco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8" name="Group 47"/>
          <p:cNvGrpSpPr/>
          <p:nvPr/>
        </p:nvGrpSpPr>
        <p:grpSpPr>
          <a:xfrm>
            <a:off x="179280" y="4292640"/>
            <a:ext cx="1527120" cy="1500480"/>
            <a:chOff x="179280" y="4292640"/>
            <a:chExt cx="1527120" cy="1500480"/>
          </a:xfrm>
        </p:grpSpPr>
        <p:pic>
          <p:nvPicPr>
            <p:cNvPr id="139" name="Picture 21" descr="1999027"/>
            <p:cNvPicPr/>
            <p:nvPr/>
          </p:nvPicPr>
          <p:blipFill>
            <a:blip r:embed="rId8"/>
            <a:stretch/>
          </p:blipFill>
          <p:spPr>
            <a:xfrm>
              <a:off x="179280" y="4292640"/>
              <a:ext cx="1527120" cy="114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 Box 29"/>
            <p:cNvSpPr/>
            <p:nvPr/>
          </p:nvSpPr>
          <p:spPr>
            <a:xfrm>
              <a:off x="179280" y="5516640"/>
              <a:ext cx="79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Carrizo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41" name="Group 48"/>
          <p:cNvGrpSpPr/>
          <p:nvPr/>
        </p:nvGrpSpPr>
        <p:grpSpPr>
          <a:xfrm>
            <a:off x="179280" y="5805360"/>
            <a:ext cx="2376360" cy="892080"/>
            <a:chOff x="179280" y="5805360"/>
            <a:chExt cx="2376360" cy="892080"/>
          </a:xfrm>
        </p:grpSpPr>
        <p:pic>
          <p:nvPicPr>
            <p:cNvPr id="142" name="Picture 36" descr="Daphnia%20with%20eggs"/>
            <p:cNvPicPr/>
            <p:nvPr/>
          </p:nvPicPr>
          <p:blipFill>
            <a:blip r:embed="rId9"/>
            <a:stretch/>
          </p:blipFill>
          <p:spPr>
            <a:xfrm>
              <a:off x="179280" y="5805360"/>
              <a:ext cx="1368360" cy="89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 Box 37"/>
            <p:cNvSpPr/>
            <p:nvPr/>
          </p:nvSpPr>
          <p:spPr>
            <a:xfrm>
              <a:off x="1547640" y="5948280"/>
              <a:ext cx="1008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Pulga de agua</a:t>
              </a:r>
              <a:br>
                <a:rPr sz="1200"/>
              </a:b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(crustaceo)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44" name="Group 50"/>
          <p:cNvGrpSpPr/>
          <p:nvPr/>
        </p:nvGrpSpPr>
        <p:grpSpPr>
          <a:xfrm>
            <a:off x="5867280" y="5950080"/>
            <a:ext cx="1944360" cy="736560"/>
            <a:chOff x="5867280" y="5950080"/>
            <a:chExt cx="1944360" cy="736560"/>
          </a:xfrm>
        </p:grpSpPr>
        <p:pic>
          <p:nvPicPr>
            <p:cNvPr id="145" name="Picture 39" descr="mosquito_65147_7"/>
            <p:cNvPicPr/>
            <p:nvPr/>
          </p:nvPicPr>
          <p:blipFill>
            <a:blip r:embed="rId10"/>
            <a:stretch/>
          </p:blipFill>
          <p:spPr>
            <a:xfrm>
              <a:off x="5867280" y="5950080"/>
              <a:ext cx="1171800" cy="7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 Box 40"/>
            <p:cNvSpPr/>
            <p:nvPr/>
          </p:nvSpPr>
          <p:spPr>
            <a:xfrm>
              <a:off x="7007760" y="6216120"/>
              <a:ext cx="803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Mosquito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47" name="Group 59"/>
          <p:cNvGrpSpPr/>
          <p:nvPr/>
        </p:nvGrpSpPr>
        <p:grpSpPr>
          <a:xfrm>
            <a:off x="4284720" y="5824440"/>
            <a:ext cx="1295280" cy="1035360"/>
            <a:chOff x="4284720" y="5824440"/>
            <a:chExt cx="1295280" cy="1035360"/>
          </a:xfrm>
        </p:grpSpPr>
        <p:pic>
          <p:nvPicPr>
            <p:cNvPr id="148" name="Picture 57" descr="E"/>
            <p:cNvPicPr/>
            <p:nvPr/>
          </p:nvPicPr>
          <p:blipFill>
            <a:blip r:embed="rId11"/>
            <a:stretch/>
          </p:blipFill>
          <p:spPr>
            <a:xfrm>
              <a:off x="4357800" y="5824440"/>
              <a:ext cx="863280" cy="60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58"/>
            <p:cNvSpPr/>
            <p:nvPr/>
          </p:nvSpPr>
          <p:spPr>
            <a:xfrm>
              <a:off x="4284720" y="6400800"/>
              <a:ext cx="1295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Entamoeba (protozoo)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0" name="Group 63"/>
          <p:cNvGrpSpPr/>
          <p:nvPr/>
        </p:nvGrpSpPr>
        <p:grpSpPr>
          <a:xfrm>
            <a:off x="179280" y="2924280"/>
            <a:ext cx="1333440" cy="1285920"/>
            <a:chOff x="179280" y="2924280"/>
            <a:chExt cx="1333440" cy="1285920"/>
          </a:xfrm>
        </p:grpSpPr>
        <p:pic>
          <p:nvPicPr>
            <p:cNvPr id="151" name="Picture 61" descr="potamogeton_pectinatus"/>
            <p:cNvPicPr/>
            <p:nvPr/>
          </p:nvPicPr>
          <p:blipFill>
            <a:blip r:embed="rId12"/>
            <a:stretch/>
          </p:blipFill>
          <p:spPr>
            <a:xfrm>
              <a:off x="179280" y="2924280"/>
              <a:ext cx="1333440" cy="100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62"/>
            <p:cNvSpPr/>
            <p:nvPr/>
          </p:nvSpPr>
          <p:spPr>
            <a:xfrm>
              <a:off x="250920" y="3933720"/>
              <a:ext cx="1225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Potamogeton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3" name="Group 67"/>
          <p:cNvGrpSpPr/>
          <p:nvPr/>
        </p:nvGrpSpPr>
        <p:grpSpPr>
          <a:xfrm>
            <a:off x="2627280" y="5734080"/>
            <a:ext cx="1440000" cy="1125720"/>
            <a:chOff x="2627280" y="5734080"/>
            <a:chExt cx="1440000" cy="1125720"/>
          </a:xfrm>
        </p:grpSpPr>
        <p:pic>
          <p:nvPicPr>
            <p:cNvPr id="154" name="Picture 65" descr="fitoplankto"/>
            <p:cNvPicPr/>
            <p:nvPr/>
          </p:nvPicPr>
          <p:blipFill>
            <a:blip r:embed="rId13"/>
            <a:stretch/>
          </p:blipFill>
          <p:spPr>
            <a:xfrm>
              <a:off x="2627280" y="5734080"/>
              <a:ext cx="1440000" cy="8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66"/>
            <p:cNvSpPr/>
            <p:nvPr/>
          </p:nvSpPr>
          <p:spPr>
            <a:xfrm>
              <a:off x="2843280" y="658332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fitoplancton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6" name="Group 73"/>
          <p:cNvGrpSpPr/>
          <p:nvPr/>
        </p:nvGrpSpPr>
        <p:grpSpPr>
          <a:xfrm>
            <a:off x="7524720" y="189000"/>
            <a:ext cx="1368360" cy="1284480"/>
            <a:chOff x="7524720" y="189000"/>
            <a:chExt cx="1368360" cy="1284480"/>
          </a:xfrm>
        </p:grpSpPr>
        <p:pic>
          <p:nvPicPr>
            <p:cNvPr id="157" name="Picture 71" descr="top20"/>
            <p:cNvPicPr/>
            <p:nvPr/>
          </p:nvPicPr>
          <p:blipFill>
            <a:blip r:embed="rId14"/>
            <a:stretch/>
          </p:blipFill>
          <p:spPr>
            <a:xfrm>
              <a:off x="7524720" y="189000"/>
              <a:ext cx="1344600" cy="94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72"/>
            <p:cNvSpPr/>
            <p:nvPr/>
          </p:nvSpPr>
          <p:spPr>
            <a:xfrm>
              <a:off x="7596360" y="1197000"/>
              <a:ext cx="129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Milano real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FACTORES BIOTICOS</a:t>
            </a:r>
            <a:r>
              <a:rPr b="0" lang="es-ES" sz="3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200"/>
            </a:b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 u="sng">
                <a:solidFill>
                  <a:srgbClr val="ffcc66"/>
                </a:solidFill>
                <a:uFillTx/>
                <a:latin typeface="Tahoma"/>
              </a:rPr>
              <a:t>Relaciones intraespecíficas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1187280" y="1916280"/>
            <a:ext cx="7129800" cy="47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00000"/>
                </a:solidFill>
                <a:latin typeface="Tahoma"/>
              </a:rPr>
              <a:t>Son las relaciones que se establecen entre los individuos de la misma población (misma especie) de un ecosistem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COMPETENCIA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.- los animales pueden competir por los mismos recursos, el alimento, el espaci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COOPERACIÓN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.-proporciona beneficios a los individuos, en el cuidado de las crias, la defensa contra los depredadores, o la obtención de aliment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3T15:01:16Z</dcterms:created>
  <dc:creator>Althia</dc:creator>
  <dc:description/>
  <dc:language>en-US</dc:language>
  <cp:lastModifiedBy>Usuario</cp:lastModifiedBy>
  <dcterms:modified xsi:type="dcterms:W3CDTF">2017-01-09T13:06:21Z</dcterms:modified>
  <cp:revision>54</cp:revision>
  <dc:subject/>
  <dc:title>LOS  ECOSISTEMAS</dc:title>
</cp:coreProperties>
</file>